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62B3-4EE7-4826-A91F-F36358DF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BD3-2BA8-4BFC-8366-B32E0C40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3AD-B30E-444E-A09F-96C9A0EF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CAB-CCFD-41E9-AC5A-AC35F1BF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754-733C-4DBB-A8BD-CA693D5B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87A-3C63-418E-9019-4E3D7A46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876-FF44-4B08-94B8-30805C1E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D5E-3E88-45CA-9E4C-F1C76A88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757C-CBB3-4DC2-B366-AB0947EA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225-38F9-45B9-9C9C-C9DA340C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9CD-922F-4D71-A451-14899FDD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829-CAE3-47FB-9088-6C4B812D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510B-1D13-406D-8EE5-945E82571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iographie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or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spor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tor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sor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snor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for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fou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hor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038480" y="-360"/>
            <a:ext cx="51055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for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fort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fore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eat Ball Gam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or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or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sor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for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eat Ball Gam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430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0. motorcyc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1. comfortab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. orna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3. flav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favor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gl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sco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. cornfie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. eleva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 misfortu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forgettab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.Cobb</cp:lastModifiedBy>
  <dcterms:modified xsi:type="dcterms:W3CDTF">2008-02-14T19:27:30Z</dcterms:modified>
  <cp:revision>9</cp:revision>
  <dc:subject/>
  <dc:title>The Art Lesson Group A</dc:title>
</cp:coreProperties>
</file>